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FE4-B440-4AD5-AA9C-82242792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4280-43E5-4ECE-99E4-BB955F76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F50-1346-4E8E-9DBA-F1083519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6B16-4463-4A46-99BC-37687ABD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FE6-916B-41C0-A605-B84E373F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6299-FC73-4411-A0A3-85CFC2E3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B5B-1D66-4938-A587-EE70FDB1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0A5-FA9E-4094-8912-1C27921D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BCA9-77BC-48F0-8B65-E029160F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D2B3-6592-4839-BA1B-B6549B39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A226-B891-484A-8845-9FAB659E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FB0C-F739-483B-A8F2-6573720C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8B00-3FE9-469A-A97C-2FB8D0423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fineartamerica.com/images-medium/1-henna-hand-design-henna-tattoos.jpg&amp;imgrefurl=http://fineartamerica.com/featured/1-henna-hand-design-henna-tattoos.html%3Fviewall%3Dtrue&amp;usg=__YA1yPYTu0lkgBPy9AZUOudXs38M=&amp;h=555&amp;w=600&amp;sz=61&amp;hl=en&amp;start=2&amp;um=1&amp;itbs=1&amp;tbnid=zdwj_NC99EzL0M:&amp;tbnh=125&amp;tbnw=135&amp;prev=/images%3Fq%3Dhenna%2Btattoos%26hl%3Den%26safe%3Dstrict%26sa%3DN%26um%3D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www.nazdorovya.com/8828-henna-tattoo.jpg&amp;imgrefurl=http://www.nazdorovya.com/henna.htm&amp;usg=__bKUUgomDbujN5-AZQjcIvtB783c=&amp;h=474&amp;w=365&amp;sz=49&amp;hl=en&amp;start=6&amp;um=1&amp;itbs=1&amp;tbnid=wrr68y7PiOCfZM:&amp;tbnh=129&amp;tbnw=99&amp;prev=/images%3Fq%3Dhenna%2Btattoos%26hl%3Den%26safe%3Dstrict%26sa%3DN%26um%3D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images.google.com/imgres?imgurl=http://www.pranayu.com/rare_finds/hennatattoos.jpg&amp;imgrefurl=http://www.pranayu.com/rare_finds/henna_tattoos.htm&amp;usg=__qyQinYn4siqus3q-gOX9xGcpOb8=&amp;h=363&amp;w=480&amp;sz=79&amp;hl=en&amp;start=14&amp;um=1&amp;itbs=1&amp;tbnid=huM7jyHlwyVerM:&amp;tbnh=98&amp;tbnw=129&amp;prev=/images%3Fq%3Dhenna%2Btattoos%26hl%3Den%26safe%3Dstrict%26sa%3DN%26um%3D1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19471800">
            <a:off x="457200" y="456840"/>
            <a:ext cx="2733840" cy="2530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 rot="2901000">
            <a:off x="6248160" y="325080"/>
            <a:ext cx="2171520" cy="2828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 rot="19870200">
            <a:off x="228240" y="4190760"/>
            <a:ext cx="2743200" cy="2084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 rot="2472600">
            <a:off x="6248520" y="3809520"/>
            <a:ext cx="2327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9:33:08Z</dcterms:created>
  <dc:creator> </dc:creator>
  <dc:description/>
  <dc:language>en-US</dc:language>
  <cp:lastModifiedBy> </cp:lastModifiedBy>
  <dcterms:modified xsi:type="dcterms:W3CDTF">2010-02-05T19:01:47Z</dcterms:modified>
  <cp:revision>2</cp:revision>
  <dc:subject/>
  <dc:title>Slide 1</dc:title>
</cp:coreProperties>
</file>